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262-93FD-408F-927F-EF009F3A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CC7-B0F1-4C90-9340-A7B5866B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B20-1B1B-496F-A958-7AFF2DC6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433-C802-4014-B43D-6FDF8A02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48A-4E6D-4E4D-81F3-A9D20963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A0E-2D6D-4B7B-985A-0BD57D8A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A0F-A5D7-4865-B0CA-0E069BCE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82E-2B00-4296-9AA6-85BF0CA3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5C4-3178-4AA3-80E6-2A04F697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3EA-5FA3-4CB5-B1B4-B666C424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D24-B79D-4491-BB7D-B934E608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C2A-2BE8-4990-B5F0-5EDC6250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CAE1-E5FA-438F-9E19-68FAC37C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UvV0YcFMv3BZqM&amp;tbnid=pDefTscwv2hCIM:&amp;ved=0CAUQjRw&amp;url=http%3A%2F%2Fwww.visit-saint-petersburg.ru%2Fenglish_version_%2Frussian_revolution%2F&amp;ei=qjoXUpngAvGa1AXTw4Fw&amp;bvm=bv.51156542,d.d2k&amp;psig=AFQjCNFGadkjwT6C3JF_38CE0FLovh38Uw&amp;ust=137734042594946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Opponents of the T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Nicholas II"/>
          <p:cNvPicPr/>
          <p:nvPr/>
        </p:nvPicPr>
        <p:blipFill>
          <a:blip r:embed="rId1"/>
          <a:stretch/>
        </p:blipFill>
        <p:spPr>
          <a:xfrm>
            <a:off x="3276720" y="3213000"/>
            <a:ext cx="2367000" cy="27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b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oderate party  (Constitutional Democr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known as the Kad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were from the Intelligentsia section of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ed by many middle clas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nted a Parliament with free democratic elections like the British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d peaceful pro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ist Revolutionary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rgest opposit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ported by many peas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anded more land for those that worked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d developed the use of terror as a political weapon and employed it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Democratic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mallest opposition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 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lieved in the ideas of the Germa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munis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hinker,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lieved the workers would start a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plit into two groups in 1903:  the Bolsheviks and the Menshev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sheviks .vs. Menshev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2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sheviks (majority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d Mar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ing for the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in a tight-knit group of          revolut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2451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sheviks (minorit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ete at 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mpaign for reforms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lieved in a large party of activ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5337000"/>
            <a:ext cx="1138320" cy="15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67640" y="5373720"/>
            <a:ext cx="1476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nin was born Vladimir Ilich Ulyanov in Simbrisk on 2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pril 18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tudied law at university where he learned about western id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expelled from university for his radical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moved to St Petersburg where he became a professional r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arrested and exiled in Siberia where he adopted his name “Len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travelled Europe where he became well known and became the leader of the Bolshevik section of the Russian Social Democratic Worker’s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125360"/>
            <a:ext cx="637236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71640" y="907920"/>
            <a:ext cx="288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als/Kadets (Moderate – want Govt like Britain – supported by M/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3500280"/>
            <a:ext cx="23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ist Revolutio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argest with support of peas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907920"/>
            <a:ext cx="1366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shev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nin - Marx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78936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shev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art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9280" y="2708280"/>
            <a:ext cx="4321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2708280"/>
            <a:ext cx="41767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26920" y="1916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85128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15280" y="134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ar as Autoc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02800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6028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n Political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7340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3080" y="5950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5:41:45Z</dcterms:created>
  <dc:creator>MACLEOD</dc:creator>
  <dc:description/>
  <dc:language>en-US</dc:language>
  <cp:lastModifiedBy>sthcantleyn1</cp:lastModifiedBy>
  <dcterms:modified xsi:type="dcterms:W3CDTF">2013-08-23T10:37:27Z</dcterms:modified>
  <cp:revision>8</cp:revision>
  <dc:subject/>
  <dc:title>Political Opponents of the Tsar</dc:title>
</cp:coreProperties>
</file>